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BA5-594A-4F7E-9350-992169AA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46B-5D79-4456-B96F-E3E7C059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DAB-97FA-49F9-AD47-FF3D21B8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E94-F0E9-4631-9EC8-C5894F57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4B5-35AD-4E55-A27A-CDFD8459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AA6-2D8B-440B-9360-683AD842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F25-64DF-4A20-BC1F-1FE43BAF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B4C-7465-4BC6-968B-56FCACDB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4E9-2496-4BDA-B267-B0F3899D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E0C-46A7-4C3F-B1BA-2DA8D216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E48-DC0F-489F-98C4-771451BC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EB1-D50F-4186-8702-C7085C29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1AB4-3009-4BF6-BEE8-72FF6B06D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380880"/>
            <a:ext cx="6257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Rise of Big Busin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1447920"/>
            <a:ext cx="459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apitalis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137600" y="2209680"/>
            <a:ext cx="60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determines how much goods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how much workers are p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3200400"/>
            <a:ext cx="305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Horatio Alger Jr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46360" y="3657600"/>
            <a:ext cx="557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no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ck &amp; Pluck series  (rags to riches the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8360" y="4537080"/>
            <a:ext cx="73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issez-faire Capit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Let the people choo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Gov’t involvement in economy (free enterpr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6360" y="563868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sm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owns everything, everyone i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3520" y="380880"/>
            <a:ext cx="32670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ndrew Carneg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35800" y="1066680"/>
            <a:ext cx="735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.S.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tical Integratio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 everything from start to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) mines, factories, shipping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68160" y="2514600"/>
            <a:ext cx="358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ohn D. Rockefelle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54600" y="3241800"/>
            <a:ext cx="78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 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 Integratio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other company’s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) own ALL the oil refin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4648320"/>
            <a:ext cx="376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rnelius Vanderbil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5410080"/>
            <a:ext cx="39909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George Westinghous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George Pullma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876920" y="4800600"/>
            <a:ext cx="3943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ss Marke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95280" y="304920"/>
            <a:ext cx="620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bor strives to organiz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037600" y="1031760"/>
            <a:ext cx="503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monopolies growing 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Steel, Standard Oil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taxes on im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2362320"/>
            <a:ext cx="483876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herman Antitrust Ac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1211040" y="2895480"/>
            <a:ext cx="67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utlawed monopolies &amp; trusts which restrained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id very little to change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4114800"/>
            <a:ext cx="605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or working condit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521720" y="4800600"/>
            <a:ext cx="26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&amp;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380880"/>
            <a:ext cx="3086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Knights of Labo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7520" y="838080"/>
            <a:ext cx="525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, working for the rights of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r conditions, shorter days, more 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rance V. Powd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y Harris “Mother”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2514600"/>
            <a:ext cx="3648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e Great Upheava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39640" y="2971800"/>
            <a:ext cx="60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strikes take place throughout the 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urn vio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ymarket Ri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archi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4191120"/>
            <a:ext cx="545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merican Federation of Labo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65840" y="4800600"/>
            <a:ext cx="51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ed workers separate from uns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uel Gom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5791320"/>
            <a:ext cx="5467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Homestead &amp; Pullman Strik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2:27:51Z</dcterms:created>
  <dc:creator>nalbert</dc:creator>
  <dc:description/>
  <dc:language>en-US</dc:language>
  <cp:lastModifiedBy>nalbert</cp:lastModifiedBy>
  <dcterms:modified xsi:type="dcterms:W3CDTF">2006-03-31T16:57:30Z</dcterms:modified>
  <cp:revision>15</cp:revision>
  <dc:subject/>
  <dc:title>PowerPoint Presentation</dc:title>
</cp:coreProperties>
</file>